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23B-0B9B-4F1B-9832-47A794CA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C6C-E165-4EAD-B9DF-71F9BA07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D7D-9BA8-4B9D-9311-E757366C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64E-95A3-4577-B23D-71173DD9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77A-2ED2-4EFD-9693-1A6CF9C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9290-3F8F-4199-894A-C20777F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0A09-76FA-4207-B771-F31C666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4D9-C20E-49A4-B28D-E674D47E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ACC-EB45-4165-9BA4-76ED9A2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2AD-54B3-4BBF-B264-2D74C4D9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E532-D11B-487D-BC5C-A2D9131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64D-F212-45E3-BD2C-DFD5205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CC70-3743-42F1-9B0B-C34F17F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700D-E9CC-449C-83FC-6769338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DBDA-A70C-4235-BAA0-BC70626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E244-8029-464E-8734-B99B4594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54F2-56A7-44AC-85DF-84A0103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6DC-92FB-4F12-8FB6-93FEE33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4CD-6C78-4E47-9015-51C0FAFD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A88-6905-4094-B6F4-3FC3DCF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D3F-6758-4B12-B631-3C430A9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341-E519-4BAE-8F37-F5931CA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700-6267-41C7-B844-756E18A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172-0FFD-4C96-9041-FF6A6F4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c0c0c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7DD-C8DF-472D-84F2-F399F2487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c0c0c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BDA4-EE51-4E2F-9286-894F755EC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1,000 deaths annually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2004                32,43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2003                31,48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2002              31,65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001              30,6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2000             29,3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999            29,1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1998             30,5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9800" y="5638680"/>
            <a:ext cx="49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ttributed to suic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iming of USA suicid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419120" cy="1714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 suicide every 17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84 suicides every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4316 young peopl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age 15-2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it suicide each year (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t a rate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e suicide every two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7194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Suicide is a leading cause of death (200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1800" spc="-1" strike="noStrike" u="sng">
                <a:solidFill>
                  <a:srgbClr val="660033"/>
                </a:solidFill>
                <a:uFillTx/>
                <a:latin typeface="Times New Roman"/>
              </a:rPr>
              <a:t>Rank &amp; Cause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                                   </a:t>
            </a:r>
            <a:r>
              <a:rPr b="1" i="1" lang="en-US" sz="1800" spc="-1" strike="noStrike" u="sng">
                <a:solidFill>
                  <a:srgbClr val="660033"/>
                </a:solidFill>
                <a:uFillTx/>
                <a:latin typeface="Times New Roman"/>
              </a:rPr>
              <a:t>Number of de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  Diseases of the heart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652.48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  Malignant neoplasm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(cancer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533,8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  Cerebrovascular diseases (stroke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50,0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  Chronic obstructive pulmonary disease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21,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  Accident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12,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  Diabetes mellitus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73,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lzheimer’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isea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65,9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neumonia and influenza                                                               59,6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9.   Nephritis, nephrosi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42,4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0. Septicemia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33,3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1. Suicide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32,4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Ranking 11th in the U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660033"/>
                </a:solidFill>
                <a:uFillTx/>
                <a:latin typeface="Times New Roman"/>
              </a:rPr>
              <a:t>National ranking and rate of suicide, 2004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lask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3.6                    18  Tennessee            13.4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36  Georgia                10.9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ntan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9                    18  Washington         13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6  Michigan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evada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0  Arkansas              13.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8  Minnesot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4   New Mexico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7                    21  Maine                   13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9  New Hampshire  1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5   Wyoming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1  Missouri               12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9  Texas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6   Colorado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.3                    23  Mississippi           12.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1  Nebraska               9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7   Idaho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4  North Carolina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2  California              9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8   West Virginia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4  Wisconsin         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3  Hawaii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9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9   Utah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6                    24  Alabama           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4  Maryland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   Oregon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7  Louisiana              11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5  Connecticut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8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1  Arizon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8  Iowa                      11.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6  Illinois                    8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  Vermont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Ohio                 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7  Rhode Island         7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  South Dakot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South Carolina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8  New Jersey            6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  Oklahom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North Dakota  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9  Massachusetts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6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  Florid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7                    32  Pennsylvania        11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50  New York              6.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  Kansas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5                    33  Indiana                 11.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51  Washington, DC   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  Kentucky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5                    34  Delaware              11.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35  Virginia                11.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USA Total Rate  1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timates on attempted suic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7560" y="13953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21080" y="15238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54240" y="12193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121280" y="1295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648320" y="1447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371600" y="1547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181480" y="17762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1073160" y="2690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606680" y="24620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139840" y="2690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2673360" y="2438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206880" y="26668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809880" y="251460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4349880" y="274320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274968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3359160" y="39625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388620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4425840" y="3733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7323120" y="2971800"/>
            <a:ext cx="52560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1"/>
          <a:stretch/>
        </p:blipFill>
        <p:spPr>
          <a:xfrm>
            <a:off x="2209680" y="3733920"/>
            <a:ext cx="527040" cy="172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3240" y="630396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Note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 31,000 suicides translates into 775,000 attempts annu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2"/>
          <a:stretch/>
        </p:blipFill>
        <p:spPr>
          <a:xfrm>
            <a:off x="5486400" y="284328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3"/>
          <a:stretch/>
        </p:blipFill>
        <p:spPr>
          <a:xfrm>
            <a:off x="4883040" y="2590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4"/>
          <a:stretch/>
        </p:blipFill>
        <p:spPr>
          <a:xfrm>
            <a:off x="503568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5"/>
          <a:stretch/>
        </p:blipFill>
        <p:spPr>
          <a:xfrm>
            <a:off x="1606680" y="3505320"/>
            <a:ext cx="527040" cy="1728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31880" y="580536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5 attempts for each documented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Number of suicide surviv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t is estimated that there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6 surviv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for each death by suic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Times New Roman"/>
              </a:rPr>
              <a:t>Note</a:t>
            </a: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:  A “suicide survivor” is someone who has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a loved one to death by suic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The ratio of 6 survivors per suic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means there 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6 new survivors every 17 min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33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504 new survivors each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urvivors in the U.S. pop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873080"/>
          <a:ext cx="624852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73080"/>
                    <a:ext cx="62485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80880" y="556272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of every 62 American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s estimated to be a suicide  surviv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2840" y="1752480"/>
            <a:ext cx="2189520" cy="764280"/>
          </a:xfrm>
          <a:prstGeom prst="rect">
            <a:avLst/>
          </a:prstGeom>
          <a:solidFill>
            <a:srgbClr val="c0c0c0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4,395,4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suicide surviv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5640" y="3352680"/>
            <a:ext cx="2213640" cy="764280"/>
          </a:xfrm>
          <a:prstGeom prst="rect">
            <a:avLst/>
          </a:prstGeom>
          <a:solidFill>
            <a:srgbClr val="c0c0c0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732,5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deaths by suic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45:01Z</dcterms:created>
  <dc:creator>Vickie Watson</dc:creator>
  <dc:description/>
  <dc:language>en-US</dc:language>
  <cp:lastModifiedBy>Owner</cp:lastModifiedBy>
  <cp:lastPrinted>2000-08-12T16:34:22Z</cp:lastPrinted>
  <dcterms:modified xsi:type="dcterms:W3CDTF">2007-04-05T20:58:06Z</dcterms:modified>
  <cp:revision>37</cp:revision>
  <dc:subject/>
  <dc:title>Suicide in America</dc:title>
</cp:coreProperties>
</file>